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14D-AC33-4EAA-9246-EB689953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674-68F9-49B7-A149-0D129DF6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785-B78F-41AB-8B1A-01A6CED5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541-7E67-4E6F-8E73-94676CA2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E36-9CC3-45A4-AFE4-DFC75862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87A-2277-40A1-9A0C-3F510964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5F8-9470-430C-A6FF-8534D4E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66E-2BFD-47BF-A53B-B8794838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0EB-9A19-4113-BB0C-F878009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940-9E72-44A4-8956-11A9B4A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C1C-C030-40C6-B6CB-CDE1F93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E24-EA2A-4942-8027-EC4DE8E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FB83-E2EC-4B93-8102-BF20C524F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FORESTS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3T11:13:23Z</dcterms:created>
  <dc:creator>Angoda Emmanuel</dc:creator>
  <dc:description/>
  <dc:language>en-US</dc:language>
  <cp:lastModifiedBy>ANGODA</cp:lastModifiedBy>
  <dcterms:modified xsi:type="dcterms:W3CDTF">2016-06-24T14:26:56Z</dcterms:modified>
  <cp:revision>4</cp:revision>
  <dc:subject/>
  <dc:title>PowerPoint Presentation</dc:title>
</cp:coreProperties>
</file>